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C4F-A481-44B5-BFE6-2D0D38F6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0B76-5750-42EB-8FA9-2A351745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E9D-77BD-46B7-9E84-CD2EAB85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9A3C-184B-4591-AE3F-C4421724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B9C1-6BED-4AA4-8C5B-B89A6D78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F02C-38D7-47EF-B689-4FEDD12F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D3A0-432E-465A-9250-98C898BB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3B5F-66F0-4287-8AFB-4C69D483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C4EF-FCBF-4179-B368-83F0DFAA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0CBF-9CE6-4E61-A843-C3432E88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2C81-409E-42E9-B85B-A8B404FE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ADA-3F77-4F3E-84F2-786C2B96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E600-EA3A-4612-895E-707219FB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6841-73F9-4CC6-8856-05E966FD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7ADE-2E74-4D5A-9624-954BD022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D91C-75EA-4E3E-8DE4-25DC38BF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22EA-A8CC-46A2-8EBF-6D80BDEC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67A6F-0094-4640-9EE2-F6D1CE61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AEDA6-534A-463D-8A5F-D6A467DA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20F45-64BC-49EB-B190-2B30D188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BE2A6-0FFC-4315-82E9-925E9445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4F4B7-48F2-425C-AC38-92CBCD75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81B-D78B-4CC4-97E4-9BC9D115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34FD9-3549-4FBE-8069-EA505878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916F5-D18E-41D4-AD4B-7F78412B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71E49-6DCA-4311-BBE8-ED25099A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0A6B-9EBE-4D63-8C72-E0606757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A7D59-3A0C-4CF5-9AFF-E0D6A099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18048-5EB9-42DB-8699-41B05535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F6BFF-2987-49A4-A00B-B37B08FE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27A89-DDE9-4A2B-BC78-3DCFFE90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754B7-78F1-4B44-9896-F9EAC52F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CB374-C236-4709-9420-FEA77153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C10-A876-42F3-8B82-D3CA27F7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44D73-95AA-42C4-87CF-2D0B8C0A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BF687-B340-4FD4-9C23-69C70B41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8D4A2-82F8-4234-A372-BE0BA3AA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C8AD6-01E6-46A3-BF94-74913D07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2603B-2C0F-4DE5-87EC-16B9BC54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02E1A-170C-46D5-A29B-474CB433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43B37-38F8-4C52-A308-7C8B8977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9ECE0-4416-4908-8B07-C3B50499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02604-9723-4E86-A0A6-2079AF42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A8B79-58E8-421C-A7DB-6F64B891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5B1-2896-417A-9270-9AB03F37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09DDA-5938-47A1-A752-05FFF8C0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63607-37A3-41B2-A085-11DB95F6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955DF-ADE2-421C-B60E-97F82BB1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DE112-E83E-4041-AF0A-58C750A0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FF2C3-C493-46D7-A8AD-20901DCC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C9DBE-FAC0-484F-9905-3C61E158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BB404-28AB-4552-A604-E34B8E61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F70AE-ED5B-4DE6-8C13-970CF788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7BF8E-ADB7-4D13-AB28-F1861F3D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77EB8-00C0-4576-80A1-14021770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BE4-6971-4CAF-9CD2-075FF974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71743-1EAA-4F87-B882-E298D47C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015-5B8E-4256-ADED-D34CDDBF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7C37-1E33-41A9-8526-4102437D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A92-53E5-45B1-BEFC-7F0CF8BF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585c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585c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9676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BF61-A8DB-46FA-9FB2-18EE626086B5}" type="slidenum">
              <a:rPr b="0" lang="en-US" sz="11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585c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585c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9678-CADE-4E6C-B071-C329312883C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585c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585c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9676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8CA2-668C-461B-BB9F-979AA9C1429C}" type="slidenum">
              <a:rPr b="0" lang="en-US" sz="11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9c2d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585c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585c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9c2d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4B88-4157-4B21-B2C1-32E2F3D73DF0}" type="slidenum">
              <a:rPr b="0" lang="en-US" sz="1100" spc="-1" strike="noStrike">
                <a:solidFill>
                  <a:srgbClr val="c9c2d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585c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585c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9676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2D27-C89C-42FC-896D-7C4406DC48AC}" type="slidenum">
              <a:rPr b="0" lang="en-US" sz="11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cnets.iste.org/students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164040" y="-23760"/>
            <a:ext cx="5608440" cy="2090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09480" y="510552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iffany Harrel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alden Universit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EDUC 671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3" descr="lightbulb.jpg"/>
          <p:cNvPicPr/>
          <p:nvPr/>
        </p:nvPicPr>
        <p:blipFill>
          <a:blip r:embed="rId2"/>
          <a:stretch/>
        </p:blipFill>
        <p:spPr>
          <a:xfrm>
            <a:off x="3657600" y="2286000"/>
            <a:ext cx="439596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intent of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differentiating instruction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s to maximize each student's growth and individual success by meeting each student where he or she is, and assisting in the learning proces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(Hall, Strangman, &amp; Meyer, 2003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Content Placeholder 5" descr="7keys.jpg"/>
          <p:cNvPicPr/>
          <p:nvPr/>
        </p:nvPicPr>
        <p:blipFill>
          <a:blip r:embed="rId2"/>
          <a:stretch/>
        </p:blipFill>
        <p:spPr>
          <a:xfrm>
            <a:off x="3809880" y="1905120"/>
            <a:ext cx="41864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niversal Design for Learning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 a set of principles for curriculum development that give all individuals equal opportunities to learn.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(CAST, 2009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Picture 4" descr="UDL wordle.jpg"/>
          <p:cNvPicPr/>
          <p:nvPr/>
        </p:nvPicPr>
        <p:blipFill>
          <a:blip r:embed="rId2"/>
          <a:stretch/>
        </p:blipFill>
        <p:spPr>
          <a:xfrm>
            <a:off x="1600200" y="2895480"/>
            <a:ext cx="52164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255080" cy="927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52280" y="99072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To support diverse recognition network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multiple examp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ighlight critical featur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multiple media and forma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background contex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To support diverse strategic networks: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flexible models of skilled performan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opportunities to practice with suppo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ongoing, relevant feedbac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fer flexible opportunities for demonstrating skil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To support diverse affective networks: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fer choices of context and tool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fer adjustable levels of challeng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fer choices of learning contex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fer choices of rewar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Content Placeholder 3" descr="differentiation.jpg"/>
          <p:cNvPicPr/>
          <p:nvPr/>
        </p:nvPicPr>
        <p:blipFill>
          <a:blip r:embed="rId1"/>
          <a:stretch/>
        </p:blipFill>
        <p:spPr>
          <a:xfrm>
            <a:off x="152280" y="533520"/>
            <a:ext cx="7832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317520" y="-19080"/>
            <a:ext cx="7667640" cy="1487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26672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uild a library of digital material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ultimedia composition tools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raphic organizer software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xt-to-speech and text-to-image programs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D-ROM storybooks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arning software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052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tional and State Standar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fessional Organiza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orksheet generato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ssessment ide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sson pla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matic Uni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Quizz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50720" y="-23760"/>
            <a:ext cx="7255080" cy="1176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0" y="1294920"/>
            <a:ext cx="7696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ational Education Technology Standards for Stud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10082"/>
                </a:solidFill>
                <a:uFillTx/>
                <a:latin typeface="Trebuchet MS"/>
                <a:hlinkClick r:id="rId2"/>
              </a:rPr>
              <a:t>http://cnets.iste.org/students/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ducation World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www.educationworld.com/standards/state/index.shtml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skABLE (Online Disability Resourc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askable.askvrd.org/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covery School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discoveryschool.com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ubist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rubistar.4teachers.org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enter for Applied Special Technology. (2009).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About UDL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 Retrieved from http://cast.org/udl/index.html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all, T., Strangman, N., &amp; Meyer, A. (2003).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Differentiated instruction and implications for UDL implementation.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Retrieved from http://www.cast.org/publications/ncac/ncac_diffinstructudl.html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02:29:17Z</dcterms:created>
  <dc:creator>MZE</dc:creator>
  <dc:description/>
  <dc:language>en-US</dc:language>
  <cp:lastModifiedBy>MZE</cp:lastModifiedBy>
  <dcterms:modified xsi:type="dcterms:W3CDTF">2011-02-03T01:57:25Z</dcterms:modified>
  <cp:revision>40</cp:revision>
  <dc:subject/>
  <dc:title>Integrating UDL and DL Through Technology</dc:title>
</cp:coreProperties>
</file>